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187-E943-4CFD-AA51-C055CD07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B593-A823-458B-90E1-FC70EF85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5EAB-DD95-4A39-A3AC-477A3AF6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E6ED-BB51-4240-921B-E626F29B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EF6D-DDCD-4EAB-8690-42AE7093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027-7157-4452-BAB9-A17633D1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093-0C71-4878-9F32-6CC66AF5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281-366B-4AD2-AF39-5CAFE1CC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E931-F2DB-41F8-9FC0-D73E6E7C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238-523C-48D6-A033-09F2FDA1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B2CB-448D-4F72-8EB4-45A31539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2C7-5F65-43CB-8A05-A3BA9436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1947-9338-4365-A2C8-59ECBB538B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2.wmf"/><Relationship Id="rId4" Type="http://schemas.openxmlformats.org/officeDocument/2006/relationships/image" Target="../media/image11.png"/><Relationship Id="rId5" Type="http://schemas.openxmlformats.org/officeDocument/2006/relationships/image" Target="../media/image1.wmf"/><Relationship Id="rId6" Type="http://schemas.openxmlformats.org/officeDocument/2006/relationships/image" Target="../media/image5.wmf"/><Relationship Id="rId7" Type="http://schemas.openxmlformats.org/officeDocument/2006/relationships/image" Target="../media/image7.wmf"/><Relationship Id="rId8" Type="http://schemas.openxmlformats.org/officeDocument/2006/relationships/image" Target="../media/image3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e tu vas faire ce week-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ujourd’hui                      Samedi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26 mars                           31 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2919240" cy="3024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51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vais au musée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8000" y="5589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vais aller au musé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27100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1779480" cy="2232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376360" cy="1751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50920" y="4792680"/>
            <a:ext cx="1944720" cy="1652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300720" y="4869000"/>
            <a:ext cx="2590920" cy="1703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59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659640" y="2637000"/>
            <a:ext cx="17272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2232000" cy="1986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3203640" y="4941720"/>
            <a:ext cx="2592360" cy="1598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611280" y="2637000"/>
            <a:ext cx="1962000" cy="1969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3276720" y="2478240"/>
            <a:ext cx="23749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14654160" y="-10541160"/>
            <a:ext cx="33951960" cy="288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8605800" y="-13204800"/>
            <a:ext cx="35499600" cy="31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1198160" y="-19829520"/>
            <a:ext cx="31622760" cy="33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17894160" y="-12052440"/>
            <a:ext cx="37155240" cy="229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2341440" y="-13319280"/>
            <a:ext cx="43924320" cy="40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41945040" y="-6651720"/>
            <a:ext cx="61617240" cy="618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ujourd’hui                      Samedi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26 mars                           31 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20840" y="1816200"/>
            <a:ext cx="2884320" cy="3052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joue au foot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5589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vais jouer au fo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29941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ujourd’hui                      Samedi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26 mars                           31 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38988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visite le château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558972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vais visiter le châtea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3600360" cy="306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6720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ujourd’hui                      Samedi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26 mars                           31 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228840" cy="3240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733720"/>
            <a:ext cx="82296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’écoute de la musique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558972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vais écouter de la mus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3004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ujourd’hui                      Samedi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26 mars                           31 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86320" cy="3384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danse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88000" y="5589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vais dan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2745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ujourd’hui                      Samedi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26 mars                           31 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456000" cy="30747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5589720"/>
            <a:ext cx="39704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regarde la télé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8000" y="558972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vais regarder la tél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3240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ujourd’hui                      Samedi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26 mars                           31 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4033800" cy="2971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mange un gâteau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558972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vais manger un gâtea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74328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ujourd’hui                      Samedi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26 mars                           31 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816360" cy="23508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nage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5589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vais na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59280" y="2205000"/>
            <a:ext cx="39607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ujourd’hui                      Samedi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26 mars                           31 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456000" cy="3174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fais de l’équitation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88000" y="558972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vais faire de l’équi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338436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0:36:18Z</dcterms:created>
  <dc:creator>staff17</dc:creator>
  <dc:description/>
  <dc:language>en-US</dc:language>
  <cp:lastModifiedBy>Ministry of Education</cp:lastModifiedBy>
  <dcterms:modified xsi:type="dcterms:W3CDTF">2009-10-21T23:23:38Z</dcterms:modified>
  <cp:revision>11</cp:revision>
  <dc:subject/>
  <dc:title>Qu’est-ce que tu vas faire ce week-end?</dc:title>
</cp:coreProperties>
</file>